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24B-C1FC-4127-A8F9-17661BAC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047-D7F5-44F7-ABE7-84DDB2F8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A1A-1C76-4D01-B6E6-650F6AFC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292-3DD2-4611-93DF-22E572A0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8C6-1170-412C-946E-C2A9C5CC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A77-B1FB-4839-AEED-AC2BD041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EA3-B27D-4005-8B7E-50BBB6D0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E89-F9C6-4002-A9F5-BF06D852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0F6-CE6C-4100-BFA3-3E82483B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2274-46D6-4B3B-B152-EB0785F0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322-095F-4EF4-A013-6525489C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AF3-E3A8-4BFF-8F1F-B17EAC74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75EB-49CC-49D1-B5E7-0E04AF26E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15:32:06Z</dcterms:created>
  <dc:creator>jobert</dc:creator>
  <dc:description/>
  <dc:language>en-US</dc:language>
  <cp:lastModifiedBy>jobert</cp:lastModifiedBy>
  <dcterms:modified xsi:type="dcterms:W3CDTF">2012-05-25T15:32:26Z</dcterms:modified>
  <cp:revision>1</cp:revision>
  <dc:subject/>
  <dc:title>Slide 1</dc:title>
</cp:coreProperties>
</file>